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5B211-8EC9-4CFA-B7F7-8B48CACB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3260-20D3-4B35-AED3-80BDCAAF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32A2-393F-4268-AC24-7A3E8FDD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08A3-9AA4-4685-BF40-24F4FE23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9F1F-DBB6-411B-A26E-31A1CD10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53CE-7B76-4B48-AF3C-DEB3BA56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21C2-5275-4A29-BADA-C0244176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C4DF-E193-4622-9992-A252D4A7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E96F-A2CF-42B5-9DF9-03F650C3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67F7-34EB-4D2B-BDF4-5D2EC569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5549-D177-4765-82B7-BEC8B081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41631-EBE8-45EE-8F4D-26428B75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CC50-DA41-433A-AF29-116E52FD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4F09-7266-4F0F-8D6C-138F6AF1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8744-C033-4D77-9CC7-237C7005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27E5-B25F-42B6-8129-E6C7AF70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2D44-C508-4936-863E-CC08E2D9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2D2A1-805B-4C15-8513-564A8483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7E503-D539-44D9-9417-5B0AFEE2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40B6C-BA1C-4CC9-B6F8-A82F1453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9599F-FEB8-4CC3-AC28-21495071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96435-D482-4FD6-A52D-6AD6A8DF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7C43-C85F-4C4B-9F03-A8F270E3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B0302-1663-4D1C-A8A1-4636C46F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7845-C01F-43EE-8A06-CF72783090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6820-1CAB-46F3-8BFB-D6B50CF774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8800" y="2214720"/>
            <a:ext cx="7854840" cy="23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Дискуссия</a:t>
            </a:r>
            <a:br>
              <a:rPr sz="2500"/>
            </a:b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«Трудная ситуация на уроке и ваш выход из неё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484000" y="188640"/>
            <a:ext cx="63356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Monotype Corsiva"/>
              </a:rPr>
              <a:t>Люди уча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Monotype Corsiva"/>
              </a:rPr>
              <a:t>когда они уча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Monotype Corsiva"/>
              </a:rPr>
              <a:t>                  </a:t>
            </a:r>
            <a:r>
              <a:rPr b="1" i="1" lang="ru-RU" sz="2800" spc="-1" strike="noStrike">
                <a:solidFill>
                  <a:srgbClr val="00007d"/>
                </a:solidFill>
                <a:latin typeface="Monotype Corsiva"/>
              </a:rPr>
              <a:t>Сен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pe01561_"/>
          <p:cNvPicPr/>
          <p:nvPr/>
        </p:nvPicPr>
        <p:blipFill>
          <a:blip r:embed="rId1"/>
          <a:stretch/>
        </p:blipFill>
        <p:spPr>
          <a:xfrm>
            <a:off x="0" y="3816360"/>
            <a:ext cx="4583160" cy="3041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5000760" y="5500800"/>
            <a:ext cx="38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: социальный педагог Малькова Юлия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дагогические ситу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ница математики молодая. Пришла проводить урок алгебры в 8-м классе. Она заметила, что под столом учителя сидит ученик, но сделала вид, что не видит, и быстро, в темпе, начала урок, но так, чтобы все работали. Учащиеся с мест выкрикивали: «Коряга под столом!» (так дразнили мальчика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 ПЕРВЫ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читай школу местом, не совсем достойным применения твоих выдающихся способностей, местом, куда тебя как бы сослали. Школа не нуждается в твоем снисхожд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ОРОЙ СОВЕТ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себя, свой образ. Учитель индивидуален, иначе не может быть речи о творч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ТИЙ СОВЕТ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мыкайся в своем учительстве. Если учитель — только учитель, то скучно. Ты должен быть интересен де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Советы молодому учителю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j0413638"/>
          <p:cNvPicPr/>
          <p:nvPr/>
        </p:nvPicPr>
        <p:blipFill>
          <a:blip r:embed="rId1"/>
          <a:stretch/>
        </p:blipFill>
        <p:spPr>
          <a:xfrm>
            <a:off x="7385040" y="4797360"/>
            <a:ext cx="142416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Советы молодому учите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ВЕРТЫЙ СОВЕТ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ни о комплексном характере учительского труда. Все имеет значение, все нужно: и эрудиция, и методика, и внеклассная работа, и психология общения, и любовь к детям, и дисципл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ЫИ СОВЕТ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ь счастливым.   Будь оптимистом! Верь! Ужасно, когда учитель не видит ничего хорошего ни в настоящем, ни в будущ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СТОЙ СОВЕТ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ь честным и правдив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очень высоко ценят чес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j0413638"/>
          <p:cNvPicPr/>
          <p:nvPr/>
        </p:nvPicPr>
        <p:blipFill>
          <a:blip r:embed="rId1"/>
          <a:stretch/>
        </p:blipFill>
        <p:spPr>
          <a:xfrm>
            <a:off x="7385040" y="4797360"/>
            <a:ext cx="142416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Советы молодому учите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Т СЕДЬМОЙ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и юмор в общении с уче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 бойся смешного, не бойся быть смешным. Другое дело, если над тобой смеются постоянно, если ты  вообще смешон — это вс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Т ВОСЬМОЙ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ь естественным, не притворяйся, не старайся казаться умнее и лучше, чем ты есть. Играй себ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Т ДЕВЯТЫЙ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оображай о себе больше того, кто ты есть на самом  деле. Знай себе цену и будь скром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СЯТЫЙ СОВЕТ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ети гражданскую позицию. Помни, что у тебя есть дети, и эта позиция нужна. Гражданская позиция прежде нравственн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j0413638"/>
          <p:cNvPicPr/>
          <p:nvPr/>
        </p:nvPicPr>
        <p:blipFill>
          <a:blip r:embed="rId1"/>
          <a:stretch/>
        </p:blipFill>
        <p:spPr>
          <a:xfrm>
            <a:off x="7380360" y="5013360"/>
            <a:ext cx="142380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263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7d"/>
                </a:solidFill>
                <a:latin typeface="Arial"/>
              </a:rPr>
              <a:t>«Знания и умения учителя – </a:t>
            </a:r>
            <a:br>
              <a:rPr sz="3600"/>
            </a:br>
            <a:r>
              <a:rPr b="1" i="1" lang="ru-RU" sz="3600" spc="-1" strike="noStrike">
                <a:solidFill>
                  <a:srgbClr val="00007d"/>
                </a:solidFill>
                <a:latin typeface="Arial"/>
              </a:rPr>
              <a:t>залог творчества и успех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2565000"/>
            <a:ext cx="821844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7" descr="j0335739"/>
          <p:cNvPicPr/>
          <p:nvPr/>
        </p:nvPicPr>
        <p:blipFill>
          <a:blip r:embed="rId1"/>
          <a:stretch/>
        </p:blipFill>
        <p:spPr>
          <a:xfrm>
            <a:off x="3059280" y="3357720"/>
            <a:ext cx="3313080" cy="3073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 причины конфликтов между               педагогом и обучающими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480" y="1643040"/>
            <a:ext cx="8643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ативная оценка личности обучающегося, а не конкретного поступ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ативная   оценка   поступка   учащегося   без   разбора   его   мотивов,   учёта   личных особ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умение педагога прогнозировать поведение учеников на уроке, или занят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 отношений, сложившихся между педагогом и отдельными учениками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ные   качества   педагога   (раздражительность, самодовольство, беспомощность и др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а воздействия на личность           школьника в конфликтной ситу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Два возбужденных человека не в состоянии прийти к соглас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 ЗАДЕРЖКА  РЕАКЦИ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ПЕРЕВОД  РЕАКЦИ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РАЦИОНАЛИЗАЦИЯ СИТУАЦИ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 преодоления конфликтной ситуации педагогу необходим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 Раскрыть её прич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 Не допустить перехода в длительный             конфли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 Завладеть ситуацией, использовать её          познавательные и воспитательные сто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 Найти пути предупреждения или погашения конфли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 Поддержать даже «плохих» воспитанников.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Педагогические ситуац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туация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лодая учительница, впервые вошедшая в класс к шестиклассникам, увидела, что дети приветствуют ее, стоя на стульях. Замешательство длилось несколько секунд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дагогические ситу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79280" y="1213920"/>
            <a:ext cx="8964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ликтная ситуация. С 1 сентября в школе начала работать по совместительству молодая учительница музы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ервых дней у нее начался конфликт с учащимися 7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нце первой четверти, когда учительница пришла на урок, она увидела, что все учащиеся стоят, повернувшись спиной к двери, и тихо поют песню «Летка-Енка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дагогические ситу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К  уроку русского языка учащиеся натерли доску салом. Я  об этом догадался, так как доска блестела. Класс с нетерпением ждал, когда я начну писать на доск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дагогические ситу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…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одой учитель истории. Урок в 10-м классе. Класс совершенно неуправляем. Перед уроком учитель волнуется, заглядывает в дверь – галдят. Он заходит, здоровается – на него ноль эмоций. Тогда он вышел из класса, подумал и поступил следующим образ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39:20Z</dcterms:created>
  <dc:creator> </dc:creator>
  <dc:description/>
  <dc:language>en-US</dc:language>
  <cp:lastModifiedBy>1</cp:lastModifiedBy>
  <dcterms:modified xsi:type="dcterms:W3CDTF">2025-10-15T21:29:27Z</dcterms:modified>
  <cp:revision>40</cp:revision>
  <dc:subject/>
  <dc:title>Семинар-практикум «Организация работы с молодыми и начинающими специалистами»</dc:title>
</cp:coreProperties>
</file>